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D0B-F5F2-4CDB-99B0-D9F2B056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169-E564-49E3-975C-8D18D0AC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983-0FE3-4F3B-BBF7-46BC3A9E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36F-57D5-4B44-8BA6-21D6A81A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63FE-0A66-4826-BF6A-2F2A4324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1ACA-6619-4B18-B596-6A74B9A2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5ACF-8D20-4D05-B81D-6B64FA09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51D3-24E9-4B9B-9C3D-869BD80B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1227-6A1A-4C25-BC27-DF3D15CD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542E-6F77-4DE6-BCE8-068BE7B8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D84D-E164-41FF-BDA1-A0B8E360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631-DEDA-467E-9575-E865A5E7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5A28-0585-4ABF-AFA4-F77D6B0C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015B-55FE-4274-A6B3-AE329698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1B4A-5149-4D0E-B9C9-0E69E2B3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76ED-0B22-407F-A3B9-DB8F7E4A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D2FA-0387-41B1-9979-39683D03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88970-EF88-4671-A2BB-2AB4E6AB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3004B-3A51-4429-82D4-CD12EFC5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A65B6-36E0-42B4-AA56-38B2A233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B2F04-DF51-4AC3-848D-C43EA644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F54C3-7F88-4A56-945B-877FD8AC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8AD6-89B4-4C61-827A-B6EA946E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64C7D-1C7A-486A-A5D5-87794F59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C984D-CE99-4160-A310-E1C9CA15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70240-A51B-489F-98B6-3E5A1A21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41BD1-010F-4D35-AADC-45185EEA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C81DD-7750-467F-95F7-F0EFC7F0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9909E-5565-4A85-86ED-3EB98BF5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92AA0-9F20-4634-9A0B-FCF10535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C734A-CE33-4FCF-9410-5919036C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53802-2671-40B5-9D23-E7A6C791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4C67F-5596-424B-8FFA-8E9DB6D2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09E-5557-4586-B255-5E4936A7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B8395-E5D4-4A16-92AC-3E41C3F9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F80C4-A555-41DB-AF85-E68D5E75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DFD19-ED0C-4376-A034-D9FE30EE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B3007-A677-46C2-8B41-0C156588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85AD5-F2F4-43A5-A671-B9DE034D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80A41-3D7D-4C86-812A-6DC5E516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664FE-B7F7-4C9B-9501-AD195A3D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4B901-B979-473B-90E1-E69AF390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31623-E4CC-44FE-B287-317D695E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B21-3EFD-4E65-BB20-61F2385D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DB69-19EB-4E90-9DD7-8BC1A761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840B-0EFD-4134-954D-BFDCEA15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D66-2045-452D-95EC-945C87DE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3ED-3264-4A49-A702-C9D9EBE2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C16C3-8B5B-4975-822F-92307E2681C2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3B920-9432-46E4-87C1-D92C7BEAB0BB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9BE65-EC8B-447B-A112-DF2B723A76BB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A459E-25C7-4F48-BF64-58504AE45827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7" descr=""/>
          <p:cNvPicPr/>
          <p:nvPr/>
        </p:nvPicPr>
        <p:blipFill>
          <a:blip r:embed="rId1"/>
          <a:stretch/>
        </p:blipFill>
        <p:spPr>
          <a:xfrm>
            <a:off x="946080" y="520560"/>
            <a:ext cx="2911680" cy="58896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8"/>
          <p:cNvSpPr/>
          <p:nvPr/>
        </p:nvSpPr>
        <p:spPr>
          <a:xfrm>
            <a:off x="4705200" y="789120"/>
            <a:ext cx="678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Мастерская Самсона Суханова.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3" name="Picture 2" descr="Vasily Tropinin 19.jpg"/>
          <p:cNvPicPr/>
          <p:nvPr/>
        </p:nvPicPr>
        <p:blipFill>
          <a:blip r:embed="rId2"/>
          <a:stretch/>
        </p:blipFill>
        <p:spPr>
          <a:xfrm>
            <a:off x="4378320" y="2795760"/>
            <a:ext cx="2610000" cy="3286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Saint Isaac's Cathedral in SPB.jpeg"/>
          <p:cNvPicPr/>
          <p:nvPr/>
        </p:nvPicPr>
        <p:blipFill>
          <a:blip r:embed="rId3"/>
          <a:stretch/>
        </p:blipFill>
        <p:spPr>
          <a:xfrm>
            <a:off x="8096400" y="2795760"/>
            <a:ext cx="2609640" cy="1723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https://upload.wikimedia.org/wikipedia/commons/thumb/e/e5/%D0%A8%D0%B0%D1%80_%D0%A1%D1%82%D1%80%D0%B5%D0%BB%D0%BA%D0%B8_%D0%92.%D0%9E.jpg/175px-%D0%A8%D0%B0%D1%80_%D0%A1%D1%82%D1%80%D0%B5%D0%BB%D0%BA%D0%B8_%D0%92.%D0%9E.jpg"/>
          <p:cNvPicPr/>
          <p:nvPr/>
        </p:nvPicPr>
        <p:blipFill>
          <a:blip r:embed="rId4"/>
          <a:stretch/>
        </p:blipFill>
        <p:spPr>
          <a:xfrm>
            <a:off x="8096400" y="4668840"/>
            <a:ext cx="26096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307800" y="307800"/>
            <a:ext cx="6874200" cy="1554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Прямоугольник 1"/>
          <p:cNvSpPr/>
          <p:nvPr/>
        </p:nvSpPr>
        <p:spPr>
          <a:xfrm>
            <a:off x="561960" y="495360"/>
            <a:ext cx="63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1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ся углубление для основания колонны радиус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см. Число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3. Какой длины и площади будет основание колонны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9" name="Picture 4" descr="Колонна ионическая из натурального камня — купить декор для отделки фасада"/>
          <p:cNvPicPr/>
          <p:nvPr/>
        </p:nvPicPr>
        <p:blipFill>
          <a:blip r:embed="rId1"/>
          <a:stretch/>
        </p:blipFill>
        <p:spPr>
          <a:xfrm>
            <a:off x="7404120" y="789120"/>
            <a:ext cx="2784600" cy="27860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4"/>
          <p:cNvSpPr/>
          <p:nvPr/>
        </p:nvSpPr>
        <p:spPr>
          <a:xfrm>
            <a:off x="647640" y="2443320"/>
            <a:ext cx="6443640" cy="3849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 = 2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 = 2*3* 500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3000(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м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 = 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² = 3*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00² = 3*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0000 =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750000 (см²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твет: С=3000см,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=750000c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м²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Прямоугольник 5"/>
          <p:cNvSpPr/>
          <p:nvPr/>
        </p:nvSpPr>
        <p:spPr>
          <a:xfrm>
            <a:off x="647640" y="3724200"/>
            <a:ext cx="2228760" cy="7146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Прямоугольник 6"/>
          <p:cNvSpPr/>
          <p:nvPr/>
        </p:nvSpPr>
        <p:spPr>
          <a:xfrm>
            <a:off x="2876400" y="3724200"/>
            <a:ext cx="2003400" cy="6984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4879800" y="3716280"/>
            <a:ext cx="1994040" cy="7146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647640" y="4410000"/>
            <a:ext cx="2154240" cy="47808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Прямоугольник 9"/>
          <p:cNvSpPr/>
          <p:nvPr/>
        </p:nvSpPr>
        <p:spPr>
          <a:xfrm>
            <a:off x="2801880" y="4422600"/>
            <a:ext cx="1763640" cy="46548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Прямоугольник 10"/>
          <p:cNvSpPr/>
          <p:nvPr/>
        </p:nvSpPr>
        <p:spPr>
          <a:xfrm>
            <a:off x="4565520" y="4430880"/>
            <a:ext cx="2308320" cy="4572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Прямоугольник 11"/>
          <p:cNvSpPr/>
          <p:nvPr/>
        </p:nvSpPr>
        <p:spPr>
          <a:xfrm>
            <a:off x="2293920" y="4900680"/>
            <a:ext cx="3076560" cy="4604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Прямоугольник 12"/>
          <p:cNvSpPr/>
          <p:nvPr/>
        </p:nvSpPr>
        <p:spPr>
          <a:xfrm>
            <a:off x="647640" y="5373720"/>
            <a:ext cx="6443640" cy="62856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3"/>
          <p:cNvSpPr/>
          <p:nvPr/>
        </p:nvSpPr>
        <p:spPr>
          <a:xfrm>
            <a:off x="307800" y="307800"/>
            <a:ext cx="6874200" cy="1554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561960" y="495360"/>
            <a:ext cx="63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2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боковой поверхности колонны равна 150 м². Сколько потребуется краски, чтобы покрасить колонну, если на 1м² расходуется 200г краски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2" name="Picture 4" descr="Колонна ионическая из натурального камня — купить декор для отделки фасада"/>
          <p:cNvPicPr/>
          <p:nvPr/>
        </p:nvPicPr>
        <p:blipFill>
          <a:blip r:embed="rId1"/>
          <a:stretch/>
        </p:blipFill>
        <p:spPr>
          <a:xfrm>
            <a:off x="7404120" y="789120"/>
            <a:ext cx="2784600" cy="278604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4"/>
          <p:cNvSpPr/>
          <p:nvPr/>
        </p:nvSpPr>
        <p:spPr>
          <a:xfrm>
            <a:off x="647640" y="2443320"/>
            <a:ext cx="6443640" cy="3849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50 * 200 = 30000(г)= 30 (кг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твет: 30кг краски потребуетс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1063800" y="3765600"/>
            <a:ext cx="2228760" cy="7142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Прямоугольник 6"/>
          <p:cNvSpPr/>
          <p:nvPr/>
        </p:nvSpPr>
        <p:spPr>
          <a:xfrm>
            <a:off x="3249720" y="3773520"/>
            <a:ext cx="2003400" cy="6984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5229360" y="3765600"/>
            <a:ext cx="1420560" cy="7142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1779480" y="4762440"/>
            <a:ext cx="4346640" cy="120672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4"/>
          <p:cNvSpPr/>
          <p:nvPr/>
        </p:nvSpPr>
        <p:spPr>
          <a:xfrm>
            <a:off x="639720" y="1305000"/>
            <a:ext cx="6475320" cy="4938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1512720" y="349200"/>
            <a:ext cx="8620200" cy="6426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Легенды Александровской колонны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981000" y="1496880"/>
            <a:ext cx="576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Трудно поверить, но поначалу горожане опасались приближаться к новому сооружению из-за боязни быть погребенными под его руинами. Такие слухи имели под собой некоторое основание: при установке фигуры ангела на вершине колонны поначалу планировалось само на вершие изготовить из гранита, но в последний момент гранит заменили обычной кирпичной кладкой. К тому же колонна не закреплена, а удерживается на основании под тяжестью своего веса. Оскорбленный недоверием публики Монферран ежедневно прогуливался рядом с колонной со своей собачкой, стремясь развеять пустые страхи обывателей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Рисунок 3" descr=""/>
          <p:cNvPicPr/>
          <p:nvPr/>
        </p:nvPicPr>
        <p:blipFill>
          <a:blip r:embed="rId1"/>
          <a:stretch/>
        </p:blipFill>
        <p:spPr>
          <a:xfrm>
            <a:off x="7176960" y="179712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3T17:13:33Z</dcterms:created>
  <dc:creator>RePack by Diakov</dc:creator>
  <dc:description/>
  <dc:language>en-US</dc:language>
  <cp:lastModifiedBy>RePack by Diakov</cp:lastModifiedBy>
  <dcterms:modified xsi:type="dcterms:W3CDTF">2021-11-04T10:50:14Z</dcterms:modified>
  <cp:revision>7</cp:revision>
  <dc:subject/>
  <dc:title>Презентация PowerPoint</dc:title>
</cp:coreProperties>
</file>